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4AE-2AF9-499F-90AA-C22A41C3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8B8-E814-4B0A-9C9C-2773473D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1AC-6183-4B00-A7AD-D87627AF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ED3-0804-4608-99FC-24D4B8E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91C-17DC-431E-9916-1A728A6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F4F-9DD6-47A9-9513-B39A469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D35-BD29-40DA-A2F7-10D0680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907-6EEC-4D3B-B90A-C09903B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9DE-53DA-45D8-B883-E02915A0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E1A-4D3B-4BA2-8F84-A103F74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780-FDBC-43FA-AEC5-8E529B6F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2F4-F880-49F4-B9E4-10BB412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76C4-91F1-422C-A155-A121E234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Alissa Tam and Bridget Dur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ers must transport their goods another 200 miles to reach the nearest part of inland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rt 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two important ports called Kaliningrad and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iningrad is located on a small island in the Baltic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he only port that stays ice-free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summer they have the choice of keeping their goods on the ships to travel 500 miles to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vel is the main transportation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5 Russia had 154,000km of railroads but 26% of them were elect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 traffic dropped since the beginning of the Russian economic reform, making the economy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 </cp:lastModifiedBy>
  <dcterms:modified xsi:type="dcterms:W3CDTF">2010-12-20T15:05:01Z</dcterms:modified>
  <cp:revision>4</cp:revision>
  <dc:subject/>
  <dc:title>Movement</dc:title>
</cp:coreProperties>
</file>